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D08-FCA5-4C83-B086-8BFA4374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873-D7A7-4039-85E0-FD10C3BC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791-8B45-472B-8181-FF9BB026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CDC-8F34-4ACE-ABF2-6A9E9A5B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1E3-809D-45AA-9AE8-42672C45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8754-B503-4086-B036-CA2B3E22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32E-F348-4CB9-A998-113A528F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CEA-A8E7-407B-BF44-DE5AF9F4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4AE-3CB9-421B-A46F-B0167AD4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CA5-75ED-41CF-9B42-016463A8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21E-3D15-4270-9959-3533E39A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1D0-0D57-44DC-853F-AA5A97A7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1124-132F-475B-BDCD-E72B0058C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ALASKA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the  great north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beautiful winter pictures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228960" y="-3223080"/>
            <a:ext cx="609480" cy="813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0"/>
            <a:ext cx="3200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IN ALASKA IS 626,9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capital is Jun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8229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0"/>
            <a:ext cx="2743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 flag represents the sky, big dipper, and the north s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laska state flag"/>
          <p:cNvPicPr/>
          <p:nvPr/>
        </p:nvPicPr>
        <p:blipFill>
          <a:blip r:embed="rId2"/>
          <a:stretch/>
        </p:blipFill>
        <p:spPr>
          <a:xfrm>
            <a:off x="251460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55087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0"/>
            <a:ext cx="2133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s are very long and cold in Alaska and they don’t have a lot of great clot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33520" y="-573732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0"/>
            <a:ext cx="2590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laska the sunset turns the sky pink and purple and makes the water look like the colorful 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52280" y="-52340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205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Alaska has a lot of animals like one animal is a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01aaapalin_alaska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838080" y="-2781720"/>
            <a:ext cx="68580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048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ska has a lot of mountains and one of their mountains is 1,684 feet 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7:42:11Z</dcterms:created>
  <dc:creator>Scott</dc:creator>
  <dc:description/>
  <dc:language>en-US</dc:language>
  <cp:lastModifiedBy>Scott</cp:lastModifiedBy>
  <dcterms:modified xsi:type="dcterms:W3CDTF">2010-01-17T21:55:10Z</dcterms:modified>
  <cp:revision>3</cp:revision>
  <dc:subject/>
  <dc:title>ALASKA</dc:title>
</cp:coreProperties>
</file>